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25F8-91AA-4339-A499-7DA277F5A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2C8D-0626-4B40-8852-F3B0FF765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E438F-643E-4039-99AC-66B9D84C3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02FF-F13D-44C4-AA43-9F4CE38E68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64EA1-0272-46E1-9F16-D45E156B52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DA28-2D79-4172-BC34-79295A8B5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B2D9-1C41-4EB6-8AF2-1EE526A9D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4A91-FA73-45F1-B5F4-3593043D2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5847-6414-49E4-BD4C-BECDA6D83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DB6E-EC99-4376-B712-7EA5ED9DE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066F-716D-4F61-8209-A83554EAC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CEE2-DDFD-4D01-88DE-9AE83937B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4047-3B01-453A-9187-EDD2F000B8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27B6-9E2D-4B77-A5A2-547EF90EA4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haring our Insigh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ig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umber off in your groups (1-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llery walk – 5 minutes /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6684-F35F-42D5-AC3E-2A1E575201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io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back to your scary fraction st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 help this stu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9CC2-F09D-4B4E-870D-488D09DA94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lope and Fraction Meaning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view the Pancake Proble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fraction meanings do you see in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o they connect to each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F30A-FCCB-40E9-AF0F-FFCB7C6A7E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 and Predic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secondary students respond to the following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1651-6369-4EB7-8EA2-536AF945CE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One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 an assignment, Jaime received the following scores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ction A:          Section B:         Total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Jaime was confused, because using what she knew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ractions, she didn’t think that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would you explain this to Jaime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60D5-B293-423F-A0C4-A49B0E7ABE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2133720" y="2362320"/>
                <a:ext cx="2538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4419720" y="2362320"/>
                <a:ext cx="2538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5867280" y="2362320"/>
                <a:ext cx="4194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4876920" y="3809880"/>
                <a:ext cx="15494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Two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w what you know about 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different representations to communicate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FA90-9343-44C7-A4FE-BC8F19AB39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5715000" y="1447920"/>
                <a:ext cx="4827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7327800" y="1523880"/>
                <a:ext cx="4572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Three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ive a real life example of a problem where the solution could involve dividing by 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2368-79CA-406D-9989-A76D969D17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Four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 you know about          ?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diagrams, numbers, algebra, words etc. to communicate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B2D0-2C4C-4B09-ABC7-AE6D5EB73A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5181480" y="1523880"/>
                <a:ext cx="723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Fiv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one sentence that  makes sense that includes ALL of  these words and numbers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per, fraction, simple, challenging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2DCB-20F9-4AAE-8D66-E570309A81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have you noticed /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your lingering wonder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59EA-19D2-4A1E-A44D-BF98147235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 and 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presentations and meanings of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nections to secondary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lated Gap Closing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s students struggle with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0BDF-C2B1-4576-A73B-9E3514C537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52C2-5200-4ECA-B652-BB367BCF8D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cary Stor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a story from your personal teaching experience involving student misconceptions about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ner/Outer Circle – share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09DC-8D92-4DD7-B074-5FBAEAA2F3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eanings and Conne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dividuall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a fraction, and represent it in as many different ways as you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two problems from secondary math that feature THAT fra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287E-26EC-4DA3-81CF-03E3AECD46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two people with the same fraction a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meanings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to curriculum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F292-2529-48CF-B578-500B843DF7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6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ap Closing - Organiz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6" name="Content Placeholder 4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8248680" cy="5291280"/>
          </a:xfrm>
          <a:prstGeom prst="rect">
            <a:avLst/>
          </a:prstGeom>
          <a:ln w="0">
            <a:noFill/>
          </a:ln>
        </p:spPr>
      </p:pic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809C-B906-4049-9037-DC08A21569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Up-Down Arrow 5"/>
          <p:cNvSpPr/>
          <p:nvPr/>
        </p:nvSpPr>
        <p:spPr>
          <a:xfrm>
            <a:off x="1611360" y="3276720"/>
            <a:ext cx="380880" cy="76176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7575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ing GAP Clos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Gap Clos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Fractions Subtop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) Comp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2) Adding and Subtracting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3) Multiplying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4) Dividing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roportional Subtopics: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5) Describing and Representing Ratios, Rates and Perc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6) Equivalent Forms of Ratios, Rates and Perc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2263-D882-44C4-8110-6AB724BF70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e, Discuss, Summariz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materials for your topic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s students struggle (F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Diagnosti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SB, F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c000"/>
                </a:solidFill>
                <a:latin typeface="Arial"/>
              </a:rPr>
              <a:t>Intervention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SB, F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summary sheet (chart paper) of key ideas / tips for secondary teac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7AF9-0E88-4FCC-B478-C5712F1B1C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17T11:49:22Z</dcterms:modified>
  <cp:revision>32</cp:revision>
  <dc:subject/>
  <dc:title>&lt;Title&gt;</dc:title>
</cp:coreProperties>
</file>